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DCE-02C0-4419-AEF5-9F02D5AD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5DE-4FCE-423A-9626-1D9D8B14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36C-1B00-4DF0-8DF3-D3AF172E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566-736E-4C00-8CE6-527A9E7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19C-FEA6-40A6-A58C-1E6452B4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2C7-288D-49BC-A40A-133A69C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B46-B249-4659-A72B-5DFAEC7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5A6-506D-46EE-923C-20ACD63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B5A-C5C9-4079-A9A2-33CC19B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CB1-0E51-430B-8DC8-4ABE354D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18C-3EEB-4D8C-8699-15A6D55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781-3F95-41A3-AC86-C11AB08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27D-91E4-4F0B-99F1-EB2E2F64C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4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el capitulo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Tarea # 5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ing the information on p. 153, write a 250wd. SPANISH essay. Due Thurs. Apr. 28! TY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8:51:57Z</dcterms:created>
  <dc:creator>Helen Zumaeta</dc:creator>
  <dc:description/>
  <dc:language>en-US</dc:language>
  <cp:lastModifiedBy>Helen Zumaeta</cp:lastModifiedBy>
  <dcterms:modified xsi:type="dcterms:W3CDTF">2011-04-14T20:14:27Z</dcterms:modified>
  <cp:revision>2</cp:revision>
  <dc:subject/>
  <dc:title>Me llamo _________   Clase 8 IM La fecha es el 14 de abril del 2011</dc:title>
</cp:coreProperties>
</file>